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chimes.wav" ContentType="audio/x-wav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3.wmf" ContentType="image/x-wmf"/>
  <Override PartName="/ppt/media/image15.wmf" ContentType="image/x-wmf"/>
  <Override PartName="/ppt/media/image1.jpeg" ContentType="image/jpe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ftr" idx="3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B846-A99B-4E8C-A499-EBABEF037641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4C25-55FC-4F36-A333-E6EC3B82B854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E53C-4866-4194-B9DB-194B1849CCA4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9836-C463-4782-95EA-EFE070529429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2F7B-2420-4B00-98F0-3760059495CE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841320" y="768240"/>
            <a:ext cx="5497560" cy="41245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1778-5D23-4B01-A64C-F2243557BCE5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841320" y="768240"/>
            <a:ext cx="5497560" cy="412452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E6F7-9C07-4918-B0D5-72BD6B2A1ABF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841320" y="768240"/>
            <a:ext cx="5497560" cy="41245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1EF9-8086-4E14-BBC0-C08A1519F74F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0337-AB5B-4561-AD48-1BCC9B132304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0C75-1DD7-4BF1-A6A3-8BE5159FAD32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E2FA-C43B-4F3D-AA44-F0E7DC837874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926A-09EF-4D47-9393-D0BF55C5ABA8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841320" y="768240"/>
            <a:ext cx="5497560" cy="412452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02AF-F356-46BD-9EDA-3455D076A844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841320" y="768240"/>
            <a:ext cx="5497560" cy="412452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E4D3-CDB2-4252-B48B-17075A887FA1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841320" y="768240"/>
            <a:ext cx="5497560" cy="412452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BFA5-28C6-436C-8B66-01640DCF4CDF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841320" y="768240"/>
            <a:ext cx="5497560" cy="412452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CB69-9260-4CE9-9DD5-A6647F2EEE17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841320" y="768240"/>
            <a:ext cx="5497560" cy="412452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64C9-1965-478A-8843-919017B40760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3C6A-AD74-4F4E-A0E9-61BBCC93BD9B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223D-11F4-465B-8980-B9C883C1CBD0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D28B-CACC-4008-9136-AE2FC8FFCE94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4CA6-1F30-4C13-8AE4-E431693312DE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0F76-B66F-4D6F-A03E-2470D5B3B5B8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2D2C-327A-4516-ACFC-145676CA35AB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ACE5-89BD-493E-B61E-D7536DBD8CD8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8B99D-D9A2-4030-A57E-3DEC1C2296E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0F877-5381-4296-A6D2-CC8D4A5F583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3575F-5731-46AB-A954-120A9F79F66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7526F-C69C-4CD5-8EB7-672E39218C1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5BAB2-4B85-4DEC-83D5-43EE644A4A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67F9A-A057-4F7C-8E59-422447B1CDD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9B051-533A-4D6C-9FD8-B0D7DA1738B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2BA2A-8686-428F-B512-EEEDA4348BD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05CB0-E8B3-446C-BC12-CC7CB0209D7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CD09A-29C3-4287-8B81-EB94868E431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2963D-F158-48BD-BC75-B6D1F1C700B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5C9C6-CF40-4342-B082-D81D8E66BFF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8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Овал 8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3" name="Овал 8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Овал 9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9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9"/>
          <p:cNvSpPr/>
          <p:nvPr/>
        </p:nvSpPr>
        <p:spPr>
          <a:xfrm>
            <a:off x="4357800" y="6500880"/>
            <a:ext cx="185724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В. Репин, 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Num" idx="1"/>
          </p:nvPr>
        </p:nvSpPr>
        <p:spPr>
          <a:xfrm>
            <a:off x="8613720" y="6500520"/>
            <a:ext cx="45720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B6D4-CE19-4C92-BFD9-F5220DD59D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8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Овал 9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43" name="Овал 9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Овал 12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8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9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Прямоугольник 8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0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Блок-схема: процесс 9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Блок-схема: процесс 12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8;&#1077;&#1095;&#1077;&#1089;&#1082;&#1080;&#1081;_&#1103;&#1079;&#1099;&#1082;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13920" y="499680"/>
            <a:ext cx="76438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72314"/>
                </a:solidFill>
                <a:latin typeface="Corbel"/>
              </a:rPr>
              <a:t>Сквозные бизнес-процессы в компании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43000" y="2928600"/>
            <a:ext cx="7693200" cy="35002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згляд на организацию, как на систему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Эффекты синергии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облемы, возникающие в организации из-за неэффективных процессо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«Сквозные» или межфункциональные процесс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озможные подходы к организации управления сквозными процессам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Номер слайда 5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654D-97DF-4989-908C-D6631B14C2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5" descr=""/>
          <p:cNvPicPr/>
          <p:nvPr/>
        </p:nvPicPr>
        <p:blipFill>
          <a:blip r:embed="rId1"/>
          <a:stretch/>
        </p:blipFill>
        <p:spPr>
          <a:xfrm>
            <a:off x="1413000" y="0"/>
            <a:ext cx="7731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14200" y="3929040"/>
            <a:ext cx="328608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Пример № 1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схемы сквозного процесса.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Прием заказа клиента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71360" y="-71640"/>
            <a:ext cx="74991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Пример № 2 схемы сквозного процесса. Разработка нового продукта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0" name="Номер слайда 5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EEA4-BFE6-49A3-A603-D2250EF2AA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"/>
          <p:cNvPicPr/>
          <p:nvPr/>
        </p:nvPicPr>
        <p:blipFill>
          <a:blip r:embed="rId1"/>
          <a:stretch/>
        </p:blipFill>
        <p:spPr>
          <a:xfrm>
            <a:off x="1000080" y="785880"/>
            <a:ext cx="821520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28440" y="0"/>
            <a:ext cx="80010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Пример № 3 схемы сквозного процесса.  Отправка и монтаж оборудования у клиента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Номер слайда 5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1CDE-9FDE-497D-B06F-0251293812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5" descr=""/>
          <p:cNvPicPr/>
          <p:nvPr/>
        </p:nvPicPr>
        <p:blipFill>
          <a:blip r:embed="rId1"/>
          <a:stretch/>
        </p:blipFill>
        <p:spPr>
          <a:xfrm>
            <a:off x="1000080" y="777960"/>
            <a:ext cx="8150400" cy="60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9720" y="70920"/>
            <a:ext cx="79297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Пример № 4 схемы сквозного процесса. 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Выпуск «газеты» меню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6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AC60-03C6-4CA8-81F9-F30EA1034E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7" descr=""/>
          <p:cNvPicPr/>
          <p:nvPr/>
        </p:nvPicPr>
        <p:blipFill>
          <a:blip r:embed="rId1"/>
          <a:stretch/>
        </p:blipFill>
        <p:spPr>
          <a:xfrm>
            <a:off x="0" y="928800"/>
            <a:ext cx="9215280" cy="59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00080" y="142920"/>
            <a:ext cx="87156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572314"/>
                </a:solidFill>
                <a:latin typeface="Corbel"/>
              </a:rPr>
              <a:t>Некоторые критерии определения сквозных процессов</a:t>
            </a:r>
            <a:endParaRPr b="0" lang="en-US" sz="4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9" name="Нижний колонтитул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вв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17A6-5F69-495B-8660-59067B7328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71280" y="1285920"/>
            <a:ext cx="9001440" cy="258588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-360" y="4000320"/>
            <a:ext cx="9001080" cy="27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Выход поставляется внешнему (внутреннему) потребителю и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существует активное взаимодействие подразделения, выполняющего процесс, с другими подразделениями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для получения выхода процессу необходимы ресурсы, которые полностью не могут быть произведены внутри самого процесса и должны поставляться из других процессов на промежуточных стадиях выполнения процесса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Руководитель подразделения не может обеспечить требуемые показатели выхода (результативность, качество) и удовлетворенность клиента, и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существенная (большая) часть поставляемого потребителю продукта/услуги формируется в других процессах на предыдущих стадиях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14280" y="28548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572314"/>
                </a:solidFill>
                <a:latin typeface="Corbel"/>
              </a:rPr>
              <a:t>Что дает выделение сквозных процессов?</a:t>
            </a:r>
            <a:endParaRPr b="0" lang="en-US" sz="4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071360" y="164268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нимание  менеджментом организации как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СИСТЕМЫ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 реальное управление процессами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отрудники начинают «видеть процессы целиком» и понимают свою роль в удовлетворении потребностей клиентов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лучшение взаимодействия вовлеченных в сквозные процессы подразделений (сотрудников) и достижение синергетических эффектов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ак следствие «работы» со сквозными процессами повышается результативность, эффективность и качество.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СИСТЕМА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изменяетс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Номер слайда 5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941A-C7AA-4F5F-82B0-EEB08ED009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5720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572314"/>
                </a:solidFill>
                <a:latin typeface="Corbel"/>
              </a:rPr>
              <a:t>Примеры реальных улучшений</a:t>
            </a:r>
            <a:endParaRPr b="0" lang="en-US" sz="4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143000" y="1428480"/>
            <a:ext cx="76485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величение объема производства в 2 раза (на тех же площадях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кращение цикла разработки нового изделия с 8 до 4 месяце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кращение до нуля числа случаев поставки некомплектного оборудован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нижение времени простоев оборудования в 2 раз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кращение времени подготовки ответа на заявку клиента с 2 недель до 3-4 дне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40C2-68F2-4C7F-90A5-48C7054C52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99720" y="71280"/>
            <a:ext cx="85726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572314"/>
                </a:solidFill>
                <a:latin typeface="Corbel"/>
              </a:rPr>
              <a:t>Какие процессы не являются сквозными?</a:t>
            </a:r>
            <a:endParaRPr b="0" lang="en-US" sz="3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0" name="Номер слайда 4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87EB-E055-4972-8C5D-78ACF9E6BE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0" y="642960"/>
          <a:ext cx="9144000" cy="6215040"/>
        </p:xfrm>
        <a:graphic>
          <a:graphicData uri="http://schemas.openxmlformats.org/drawingml/2006/table">
            <a:tbl>
              <a:tblPr/>
              <a:tblGrid>
                <a:gridCol w="3214800"/>
                <a:gridCol w="5929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Наименование проце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Интерпре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Процесс закупки, производства и отгрузки товарных свине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Это не сквозной процесс, а часть цепочки создания ценности , выполняемой организаци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Процесс производства готовой продукци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Это не сквозной процесс, а последовательность процессов, обусловленная технологией 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Деятельность отдела сбыт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Это не сквозной процесс, а набор фрагментов различных процес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Процесс коммуникаций в организаци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Это вообще не процесс с точки зрения управления, так как нельзя корректно определить его границ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Процедура управления документацией внутреннего происхождени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Это не сквозной процесс, а описание последовательности шагов по обработке документов определенного ти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перационная  цепочка (описанная в виде схемы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RI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asewis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или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usiness-Studio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) из 58 шаг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Это не сквозной процесс, а некоторое субъективное представление цепочки операций, случайно объединенных в рамках одной сх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855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572314"/>
                </a:solidFill>
                <a:latin typeface="Corbel"/>
              </a:rPr>
              <a:t>«Типовой» перечень сквозных процессов организации</a:t>
            </a:r>
            <a:endParaRPr b="0" lang="en-US" sz="4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214280" y="1771560"/>
            <a:ext cx="757080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тратегическое управлени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ем заказа клиента (в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2B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азработка новой продукци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бслуживание оборудован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ткрытие нового филиала (проект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Бюджетировани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ем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вольнение сотрудник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orbel"/>
              </a:rPr>
              <a:t>Перечень сквозных процессов - свой для каждой организации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Номер слайда 4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2F8D-BD90-4127-959E-D1307AC79F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42640" y="2901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572314"/>
                </a:solidFill>
                <a:latin typeface="Corbel"/>
              </a:rPr>
              <a:t>Как управлять «сквозными» процессами?</a:t>
            </a:r>
            <a:endParaRPr b="0" lang="en-US" sz="4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143000" y="18568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пособ № 1. «Ничего не менять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пособ № 2. «Организация  группы вокруг процесса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пособ № 3. «Матричное управление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пособ № 4. «Куратор со стороны высшего руководства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пособ № 5. «Мониторинг владельцем процесса и куратор свыше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пособ № 6. «Управление через регламенты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Номер слайда 6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60A7-1131-4114-9201-15D0C2A39D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572314"/>
                </a:solidFill>
                <a:latin typeface="Corbel"/>
              </a:rPr>
              <a:t>Организация как система</a:t>
            </a:r>
            <a:endParaRPr b="0" lang="en-US" sz="4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143000" y="1519200"/>
            <a:ext cx="749952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рганизация – это сложная систем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истема – сеть взаимозависимых компонентов, работающих вместе для достижения единой цел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Чтобы управлять системой, нужно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понимать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взаимоотношения между всеми компонентами в ее пределах и людьми, которые в ней работают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Система требует управления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 «Если компоненты системы оказываются предоставленными сами себе, они быстро становятся эгоистичными, конкурирующими, независимыми и таким образом уничтожают систему…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Номер слайда 4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0647-678A-4EF8-BCF2-00575EC21A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28760" y="5467320"/>
            <a:ext cx="29923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Corbel"/>
              </a:rPr>
              <a:t>Организация группы вокруг процесса</a:t>
            </a:r>
            <a:endParaRPr b="0" lang="en-US" sz="1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0" y="2143080"/>
            <a:ext cx="3773520" cy="302112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6"/>
          <p:cNvSpPr/>
          <p:nvPr/>
        </p:nvSpPr>
        <p:spPr>
          <a:xfrm>
            <a:off x="1208160" y="318960"/>
            <a:ext cx="7792920" cy="13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4f271c"/>
                </a:solidFill>
                <a:latin typeface="Corbel"/>
              </a:rPr>
              <a:t>Управление сквозными процессами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3" descr=""/>
          <p:cNvPicPr/>
          <p:nvPr/>
        </p:nvPicPr>
        <p:blipFill>
          <a:blip r:embed="rId2"/>
          <a:stretch/>
        </p:blipFill>
        <p:spPr>
          <a:xfrm>
            <a:off x="3840120" y="1928880"/>
            <a:ext cx="5303880" cy="3241440"/>
          </a:xfrm>
          <a:prstGeom prst="rect">
            <a:avLst/>
          </a:prstGeom>
          <a:ln w="0">
            <a:noFill/>
          </a:ln>
        </p:spPr>
      </p:pic>
      <p:sp>
        <p:nvSpPr>
          <p:cNvPr id="412" name="Заголовок 5"/>
          <p:cNvSpPr/>
          <p:nvPr/>
        </p:nvSpPr>
        <p:spPr>
          <a:xfrm>
            <a:off x="4714920" y="5143680"/>
            <a:ext cx="36352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f271c"/>
                </a:solidFill>
                <a:latin typeface="Corbel"/>
              </a:rPr>
              <a:t>Матричное управление процесс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ая соединительная линия 11"/>
          <p:cNvSpPr/>
          <p:nvPr/>
        </p:nvSpPr>
        <p:spPr>
          <a:xfrm flipH="1">
            <a:off x="3785760" y="1928880"/>
            <a:ext cx="1800" cy="478800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Номер слайда 10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5DE5-0737-49AF-A24D-03B42BB92E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1680" y="5929200"/>
            <a:ext cx="299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Corbel"/>
              </a:rPr>
              <a:t>Куратор со стороны вышестоящего руководства</a:t>
            </a:r>
            <a:endParaRPr b="0" lang="en-US" sz="1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1143000" y="214200"/>
            <a:ext cx="779292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4f271c"/>
                </a:solidFill>
                <a:latin typeface="Corbel"/>
              </a:rPr>
              <a:t>Управление сквозными процессами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ая соединительная линия 11"/>
          <p:cNvSpPr/>
          <p:nvPr/>
        </p:nvSpPr>
        <p:spPr>
          <a:xfrm flipH="1">
            <a:off x="4357800" y="1928880"/>
            <a:ext cx="1440" cy="478620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155520" y="2071800"/>
            <a:ext cx="3773520" cy="37670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"/>
          <p:cNvPicPr/>
          <p:nvPr/>
        </p:nvPicPr>
        <p:blipFill>
          <a:blip r:embed="rId2"/>
          <a:stretch/>
        </p:blipFill>
        <p:spPr>
          <a:xfrm>
            <a:off x="4857840" y="1857240"/>
            <a:ext cx="3790800" cy="3988080"/>
          </a:xfrm>
          <a:prstGeom prst="rect">
            <a:avLst/>
          </a:prstGeom>
          <a:ln w="0">
            <a:noFill/>
          </a:ln>
        </p:spPr>
      </p:pic>
      <p:sp>
        <p:nvSpPr>
          <p:cNvPr id="420" name="Заголовок 5"/>
          <p:cNvSpPr/>
          <p:nvPr/>
        </p:nvSpPr>
        <p:spPr>
          <a:xfrm>
            <a:off x="5357880" y="5929200"/>
            <a:ext cx="2992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f271c"/>
                </a:solidFill>
                <a:latin typeface="Corbel"/>
              </a:rPr>
              <a:t>Мониторинг владельцем процесса и куратор свыш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Номер слайда 9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4EEF-A1C6-4F7C-8C72-A506B647EE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6"/>
          <p:cNvSpPr/>
          <p:nvPr/>
        </p:nvSpPr>
        <p:spPr>
          <a:xfrm>
            <a:off x="1208160" y="428760"/>
            <a:ext cx="779292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4f271c"/>
                </a:solidFill>
                <a:latin typeface="Corbel"/>
              </a:rPr>
              <a:t>Управление сквозными процессами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142920" y="2138400"/>
            <a:ext cx="8858160" cy="4148280"/>
          </a:xfrm>
          <a:prstGeom prst="rect">
            <a:avLst/>
          </a:prstGeom>
          <a:ln w="0">
            <a:noFill/>
          </a:ln>
        </p:spPr>
      </p:pic>
      <p:sp>
        <p:nvSpPr>
          <p:cNvPr id="424" name="Номер слайда 8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E9E4-E72D-43A0-AE70-CEC609BE45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572314"/>
                </a:solidFill>
                <a:latin typeface="Corbel"/>
              </a:rPr>
              <a:t>По каким критериям выбирать сквозные процессы для оптимизации?</a:t>
            </a:r>
            <a:endParaRPr b="0" lang="en-US" sz="3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1143000" y="2000160"/>
            <a:ext cx="7812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ресурсы, находящиеся в управлении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процесс стратегического управления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озможный масштаб проблем, связанных с несоответствующими выходами процесса (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процесс разработки нового продукта, процесс разработки меню и т.п.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вторяемость процесса (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много раз в сутки, несколько раз в месяц и т.п.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«Тиражируемость» процесса (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использование в разных филиалах  и т.п.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значительные потоки информации (документов)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ажность процесса с точки зрения корпоративной культуры (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процесс приема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/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 увольнения сотрудников, процесс подготовки к празднованию Нового года ;-)) и т.п.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7" name="Picture 6" descr=""/>
          <p:cNvPicPr/>
          <p:nvPr/>
        </p:nvPicPr>
        <p:blipFill>
          <a:blip r:embed="rId1"/>
          <a:stretch/>
        </p:blipFill>
        <p:spPr>
          <a:xfrm>
            <a:off x="6786720" y="1500120"/>
            <a:ext cx="1214280" cy="1214640"/>
          </a:xfrm>
          <a:prstGeom prst="rect">
            <a:avLst/>
          </a:prstGeom>
          <a:ln w="0">
            <a:noFill/>
          </a:ln>
        </p:spPr>
      </p:pic>
      <p:sp>
        <p:nvSpPr>
          <p:cNvPr id="428" name="Номер слайда 6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45CB-2165-4F36-8D47-F98F0881F9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14280" y="49968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572314"/>
                </a:solidFill>
                <a:latin typeface="Corbel"/>
              </a:rPr>
              <a:t>Автоматизация сквозных процессов в </a:t>
            </a:r>
            <a:r>
              <a:rPr b="0" lang="en-US" sz="3400" spc="-1" strike="noStrike">
                <a:solidFill>
                  <a:srgbClr val="572314"/>
                </a:solidFill>
                <a:latin typeface="Gill Sans MT"/>
              </a:rPr>
              <a:t>BPM</a:t>
            </a:r>
            <a:r>
              <a:rPr b="0" lang="ru-RU" sz="3400" spc="-1" strike="noStrike">
                <a:solidFill>
                  <a:srgbClr val="572314"/>
                </a:solidFill>
                <a:latin typeface="Corbel"/>
              </a:rPr>
              <a:t>-системе</a:t>
            </a:r>
            <a:endParaRPr b="0" lang="en-US" sz="3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143000" y="2017800"/>
            <a:ext cx="77407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се ли сквозные процессы целесообразно автоматизировать в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PM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-системе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ритерии выбора сквозных процессов для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PM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-системы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цесс является сквозным (т.е. проходит через несколько подразделений)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оспроизводимость процесса (оптимальный вариант – процесс находится в состоянии статистической управляемости)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цесс часто повторяется (несколько раз за рабочий день)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 рамках процесса существует значительный документооборот (десятки и сотни документов)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 рамках процесса активно используется программное обеспечение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частники процесса имеют доступ к компьютерам; имеется сет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31" name="Picture 7" descr=""/>
          <p:cNvPicPr/>
          <p:nvPr/>
        </p:nvPicPr>
        <p:blipFill>
          <a:blip r:embed="rId1"/>
          <a:stretch/>
        </p:blipFill>
        <p:spPr>
          <a:xfrm>
            <a:off x="7072200" y="1357200"/>
            <a:ext cx="1166760" cy="1166760"/>
          </a:xfrm>
          <a:prstGeom prst="rect">
            <a:avLst/>
          </a:prstGeom>
          <a:ln w="0">
            <a:noFill/>
          </a:ln>
        </p:spPr>
      </p:pic>
      <p:sp>
        <p:nvSpPr>
          <p:cNvPr id="432" name="Номер слайда 6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370B-93C4-41B0-B024-4571EC86A3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928800" y="1285920"/>
            <a:ext cx="8005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Организация – трудовой процесс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Ф.Тейлор). Выделение и анализ блоков «человек-труд», разделение труда на элементарные части и оптимизация их выполнения, человек – запчаст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Организация – машина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А. Файоль, Л. Урвик). Выделение функциональных звеньев, планирование, координация, контроль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Организация – община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Э. Мэйо, Ф. Ротлисбергер). «Неформальная» структура организации, социально-психологическая «организация в организации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Организация – система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(Дж. Марч, Г. Саймон). Техническая подсистема, административная, неформальная, экономическая и т.п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Организация – организм.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Внутренние органы, характер, болезни и т.п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Организация – бюрократическая структура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(М. Вебер). Бюрократическая концепция социума, рационализация поведения человека, стандартизация деятельности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Организация – политическая система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(М. Крозье). Классовая концепция устройства. Групповые интересы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Организация – дело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(Г. Альтшуллер). Совокупность взаимодействующих процессо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3000" y="70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572314"/>
                </a:solidFill>
                <a:latin typeface="Corbel"/>
              </a:rPr>
              <a:t>Различные взгляды на организацию как систему</a:t>
            </a:r>
            <a:endParaRPr b="0" lang="en-US" sz="4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Номер слайда 5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74FB-4315-4D25-9DE9-373E5C9B8F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572314"/>
                </a:solidFill>
                <a:latin typeface="Corbel"/>
              </a:rPr>
              <a:t>Понятие синергии</a:t>
            </a:r>
            <a:endParaRPr b="0" lang="en-US" sz="4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00008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инерги́я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или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инерги́зм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(от </a:t>
            </a:r>
            <a:r>
              <a:rPr b="0" lang="ru-RU" sz="2400" spc="-1" strike="noStrike" u="sng">
                <a:solidFill>
                  <a:srgbClr val="8dc765"/>
                </a:solidFill>
                <a:uFillTx/>
                <a:latin typeface="Corbel"/>
                <a:hlinkClick r:id="rId1"/>
              </a:rPr>
              <a:t>греч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 συνεργία Synergos — вместе действующий) — это комбинированное воздействие двух или более факторов, характеризующееся тем, что их объединённое действие существенно превосходит эффект каждого отдельно взятого компонента и их сумм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1+1=4 или 6?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инергия внутри организации: сквозные процессы, организация как систем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инергия при слиянии организаци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Номер слайда 5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15D7-3B1A-4CE4-A1C3-AAB22E6852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14280" y="3567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572314"/>
                </a:solidFill>
                <a:latin typeface="Corbel"/>
              </a:rPr>
              <a:t>Условия возникновения синергии</a:t>
            </a:r>
            <a:endParaRPr b="0" lang="en-US" sz="4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071360" y="169992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аличие нескольких субъектов (организаций, подразделений, специалистов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озможность налаживания коммуникаций между объектам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Единая система измерений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ценност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цели и показател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перационные определени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отивация на получение эффекта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аличие необходимых ресурсов для реализации эффектов (в т.ч. времени руководителей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Номер слайда 5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5D93-F6D3-4287-8CF4-1DF41D80BF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14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572314"/>
                </a:solidFill>
                <a:latin typeface="Corbel"/>
              </a:rPr>
              <a:t>Синергия при взаимодействии</a:t>
            </a:r>
            <a:endParaRPr b="0" lang="en-US" sz="4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073160" y="149976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Продажа продукции компании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– взаимодействие менеджера по продаже, маркетолога, инженера, финансиста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Согласование условий договора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– взаимодействие менеджера по продажам, юриста, финансиста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Разработка нового изделия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– взаимодействие маркетолога, менеджера по продажам, технолога, менеджера по закупке, экономиста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Прием на работу нового сотрудника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– взаимодействие менеджера по персоналу, начальника подразделения, мастера-наставника, бухгалтера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Номер слайда 4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07DB-C158-4F92-AF0B-218EC9D00F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43000" y="70920"/>
            <a:ext cx="749952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Примеры потерь и их причин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Номер слайда 5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1C77-16F1-49B0-A146-495BE7A8C9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10" descr=""/>
          <p:cNvPicPr/>
          <p:nvPr/>
        </p:nvPicPr>
        <p:blipFill>
          <a:blip r:embed="rId1"/>
          <a:stretch/>
        </p:blipFill>
        <p:spPr>
          <a:xfrm>
            <a:off x="-173160" y="642960"/>
            <a:ext cx="98888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14280" y="214200"/>
            <a:ext cx="7499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Причины неэффективных процессов </a:t>
            </a:r>
            <a:r>
              <a:rPr b="0" i="1" lang="ru-RU" sz="2800" spc="-1" strike="noStrike">
                <a:solidFill>
                  <a:srgbClr val="572314"/>
                </a:solidFill>
                <a:latin typeface="Corbel"/>
              </a:rPr>
              <a:t>(один из возможных взглядов)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1" name="Номер слайда 4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D29E-345E-411C-A81C-B8B67D0490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-25560" y="1428840"/>
            <a:ext cx="921384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43000" y="428760"/>
            <a:ext cx="7499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572314"/>
                </a:solidFill>
                <a:latin typeface="Corbel"/>
              </a:rPr>
              <a:t>Проблемы, возникающие из-за неэффективных процессов</a:t>
            </a:r>
            <a:endParaRPr b="0" lang="en-US" sz="4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Номер слайда 4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E7CD-365D-49DF-B721-0B1CF5B271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071720" y="1842840"/>
            <a:ext cx="764352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нижение прибыли, неэффективное использование капитал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изкий темп развития организаци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достаточное качество продукции, неудовлетворенные клиенты, потеря рынка сбыт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изкие зарплаты, неудовлетворенность сотрудников своим трудо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9:38:36Z</dcterms:created>
  <dc:creator>www</dc:creator>
  <dc:description/>
  <dc:language>en-US</dc:language>
  <cp:lastModifiedBy>www</cp:lastModifiedBy>
  <dcterms:modified xsi:type="dcterms:W3CDTF">2009-01-19T09:14:46Z</dcterms:modified>
  <cp:revision>135</cp:revision>
  <dc:subject/>
  <dc:title>BPM – последняя надежда системной оптимизации компании</dc:title>
</cp:coreProperties>
</file>